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218-69FF-4912-803A-C9C0746E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829-DC15-4F95-A1A5-FFAEB1A1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AD5EC-6D01-40D0-8D2D-8BA1177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8567D-6CC2-4081-A96B-55392797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61276-4DDB-45B9-BF0C-CB1A3F9B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8B1D2-D8C3-4E45-B395-73B4ABB9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C6591-9D40-4132-A0DE-7E17D6F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407F2-A605-45BC-BAFE-3791566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8CF1E-7D49-4311-AA40-2DBBCD2C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F14D6-A1C2-42A9-9E76-C34D5E01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217B1-A6A6-41EE-BB7A-89EE6C76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E6E96-A413-413E-964D-EB4E8217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01A-EE4D-4FDC-8AE6-8DF58349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7BB28-4A12-4DA0-915A-9285F727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4AC10-9805-45BC-A2C7-C108BC21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446D2-C429-41BA-9903-A3B0593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BA64A-2A65-4DDD-8D24-5498173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F1B71-92A2-4945-B27F-6911B2FB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415AE-6C99-4304-9902-FC0FDB7C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EA3E0-149B-4F6B-AB5A-867B89D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DA824-D91C-4171-9F48-65765F5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DAB9D-DAD2-4F27-B1B4-0BCA694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39667-2032-4DCC-BED9-7A9E417F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FCA-A2C2-4166-AE5C-BBE50C06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3D596-EA4A-4D70-90F3-6D083E82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B965A-7488-4E2F-A569-961E1F46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AEF8C-3985-4884-A116-C4F0FF8A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76E3E-50FC-4C93-A6C8-A13A29C7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06004-C38A-4EA1-9ECD-253CAFF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EE19C-E463-4851-842D-D43D11A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E9C2A-2074-477E-9174-168CB507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D3632-2479-4D25-8652-EF09283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94A15-732C-434C-9540-35803336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21FFB-B65E-4E52-90E2-3FDB8C4B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70F-8970-494C-A1E9-A768478F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B97BC-3138-437B-8F52-D7E0ADDA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89344-CB72-4DE8-A4AB-84566BD6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1ACF8-2EF4-446E-BE73-8D2CD2D3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C067F-91F2-40B2-88F8-BB3F2F23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F7015-3125-459F-B66C-D135CAF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7F423-EB96-496B-9A5E-5F380B14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7F079-3C37-474B-B42B-1FE0C2E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8830B-F215-4973-8759-FC03D7D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195A8-63FF-4F3D-80E6-20314D2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7EBF1-25F6-4726-A076-819F8CE7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11B4-6F42-41C4-88E5-B0E98A6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A766F-B27C-4F5D-8AD1-F80F1AA6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4A528-88B4-4E78-9A74-8C85AF3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D3589-857B-48A2-B6B2-12959AFB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2BE88-5804-4DD0-BD0C-024CD322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4C964-0051-4AAA-BAB6-85C2475D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9F7C5-3E7F-48D6-B276-4080F40B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53211-51AD-456C-842D-EC4F8BE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3E123-CD59-4F49-B87E-1DA558B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D7D99-4B14-43B5-B8B4-88AA74A8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1A7A1-31B2-43A7-9541-ED5311EF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D043-E7F7-405A-B5D0-8F2D6E0A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748C0-C600-4457-B1CD-84AE4EF6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E0673-C258-4BF6-A469-E073204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9E343-07D8-4F23-86EF-0ADBF69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CEDA3-FFDB-490B-9DB1-ECCAA60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B7CAE-B74D-404B-A9E4-A6DB900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58A7F-962E-4828-AA73-C290B8F8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329F8-D94E-433B-8870-51F77B1B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8ABC0-34D0-4C84-80A2-F6E3191C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C9C3C-B6B9-4599-A0F8-EC6E50CC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4BA12-C1BD-4A21-A679-EBACC816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7B0B-2177-43F3-912C-5F2E585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DDAD8-91D3-48B8-A934-7BE14C87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52B57-D157-4316-8A81-0BFA89DD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70111-18BD-43DE-A8A8-C45B0F3F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382E7-47DA-4CCF-A3FA-779FAE4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D3282-BC9D-41DA-9DBA-2318F7C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340F2-5075-42F0-A725-461B7DB7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BF239-1EE4-4181-A23D-762E79B6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53D5E-E07E-46B9-B2B6-42982D57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67238-FF5F-4D69-A230-A8CF7F2F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9AB5C-2CBA-4896-B63D-B47E0CD3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E738-EF71-4AA9-95A4-4B75CF61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A3F5C-AEB6-4C36-ABB0-274D2FCB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BFA62-7186-40A8-88EF-DBE3141A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8272A-02F2-476D-8766-BC3E1712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66FA7-17F2-43F3-B331-3333B079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BD1E5-25B0-48B3-89D1-06A614CB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373FD-0273-49A0-A9C8-32573C18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7D1A8-CB78-4A6D-A9CC-6B9384FF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E749A-9C14-45B1-B5CB-0FFC9E18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D3787-DD5C-407B-8343-06B394B3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BB7EF-DF99-4B9E-9AF6-61A1499B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BF1F-7D65-4FCB-BA9F-0E7DFFD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EC6DF-85F7-486D-9230-3B8A932C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D529F-9602-4CB2-941B-781E8ADA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E362F-781C-4204-805B-7DC45B6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348F1-BA70-4212-AF9E-3727AEA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AE7D2-61A2-4231-86AC-42D65BDD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EFA94-541B-4F14-9D61-66569C8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65B58-0A5B-4EDF-81A6-1E6667C5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DC7CA-9DA4-487A-A446-1336084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B5E87-8AFA-4D9B-B523-3139602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CE726-8EDD-4ABF-8585-4B5DDC03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A01A-7F72-4618-9134-D82FC007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4C8EA-A97F-45D4-8092-724DA40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162C0-9BAB-4875-B48D-30D0C585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0A941-AB97-4DB4-B542-FFE57F64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7B0D3-05F6-4477-A427-5C997B74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96296-9BA8-4E26-AC89-CEA8993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BDD7A-6440-49CF-941E-A53BAC4E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BE5B9-6554-476C-B0D3-672DD955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C4C63-58C1-4E9E-BD28-99A3B666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61152-D4A6-45D8-93E0-4EA45F6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419FB-6277-4059-88C2-80D491D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02F-D034-48AD-8098-5140963D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6521-0C6E-455A-A62D-210E843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889D1-F9CA-4EB1-AA19-79C8D57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6F0F5-9619-4A18-9418-D303E14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95309-8B00-40A2-82DE-83C86094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96533-DA5E-4AE0-8DCB-95DBC0C8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B1E705-8688-4EF1-B562-172FCE42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9ABCD-03D0-48CE-82B5-A1E1F359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3C062-36D8-4BB3-8741-F3CAAA0C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89092-FFF0-4830-B746-537AEB5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E9316-FA6F-4735-966D-931524F1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8D8B9-2908-4610-89CA-D050AEA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0CDE-6302-4403-8A01-78013381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F948F-EF0A-4C84-BA8A-5C9F4F0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8A1F3-61D4-4844-84B4-1FFE5EA3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0D58E-17B7-48A6-BB0F-68095B0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38CC3-0259-4164-B8A9-663E1B3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23A78-2888-4636-9E55-C47A0651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31BF9-DC96-4627-B12C-79A85DFE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E7BA7F-F96D-44F4-99F3-56E7D796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D3078-4018-4793-BF8B-563DACA7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60CFB-313A-4837-A5D5-EE51A97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5C7D9-A7FE-4F2E-9B3B-C2B7B1C3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898E-1C5D-4096-A9A9-1320612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B0CC3-E9BD-4013-9CD6-B92ABEFF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8A53E-61EC-48A0-98F4-68110C1B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89B3C-D271-4D21-B793-D230ACC0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F28D3-C126-4BFB-8058-755D5F11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8F01B-172B-4109-AFFF-ADE41AC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D93F1-D795-453C-B6EC-D81EFFF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45402-970B-4988-AF91-4ACCB97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D02FF-4952-47AC-9B5B-F5414B4E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B830B-8CCD-4525-8380-903C33C3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067FC6-B53C-4870-9985-8B750D55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B6F1-2ADA-4BF0-9316-8ED59CD6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8D4FF-AC76-4C76-9B9D-469F263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648A4-327B-44A8-9F51-85EA8E5B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0F808-EA9B-47E6-87BA-06E4CF51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BDFDA-9270-45C1-9A15-F34D205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150E1-70CB-4FD6-AD1B-EC48C829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C2D21-A7B0-4776-A2BD-1F31041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A0BAB-3831-4C12-BAB7-1CF14994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8DF47-94BB-4CF0-BF1E-852BCBF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D3E4E-040B-4A73-800B-06D6A73E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DF666-349D-4430-BCE7-6AE2E0F8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2277-8FDD-4EFF-8967-AE011CF1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5A802-1021-492B-84B0-7D64CE28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EDD48-96F3-409B-8CDA-1F8FA00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3C044-6ED6-44FE-A5AA-71999B80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28FF8-949D-4CE4-B4FD-3230E41E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FAEDE-F378-4D79-95B8-136F4359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47D13-9CCB-495F-A974-97FC8C57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E9A64-768B-4BBB-98FB-3BBD05AB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F6609-ADC2-4147-8A35-637CFF99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28418D-56E7-4874-B07A-88456A9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5EFC0A-43A1-4B95-9663-D8265394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5F2D-940F-467C-A535-72F7A9A5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4FA86-091E-4A2F-9D52-C176826A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73A27-0DF4-49E0-AB8B-4B3A5B08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1C121A-5280-43E8-B80C-907DFA62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23F7-5168-4918-AD25-71159481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7FB4-E998-4B8A-908B-B8AB24E0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7734-5CFF-452B-A89D-057C917D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6571-70F3-40C1-8777-4195DE4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3C4-D135-4C98-94FA-038603F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077F-1F1C-4A84-BCCA-5B744C39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3916-A376-4E70-ACF3-B11E3F93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3F3C-7181-40E5-878E-B64750AC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546A-E9F9-467D-ABFC-A110647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CB0F-8683-4E46-BDFF-C6E83E12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EB27-7D84-4A8C-8D75-C3C3CD24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1DC1-8942-47F2-A90C-2513D30C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046A-F255-4A53-BC88-BB233FE5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D47FC-BFCC-4DB0-8A21-6EC88C8E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3ECE-DD4F-4752-9D18-19CF9B8A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9AA-F059-4AE9-AFBE-B14995F5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82E2C-D0C6-4761-94D0-FA8D9C54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9AF7-3431-42F6-866E-B45104CE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7890-E9F2-4EAE-95F8-32EB6DD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3DEE-974B-4C00-8B9F-0222C343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81A3-0D60-45C0-9C59-502239B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D44E2-B5E5-49AE-8246-F89E25E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A741-D856-4860-928C-FFB1840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1A08-8EA7-4761-AA23-4D0E27FB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785D-471F-47C3-AAF7-7791B3B7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4AE17-054E-4757-A606-695FAD69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A8E-13FE-4C6F-A46F-39183586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0737-020F-42D4-9C96-E12869EE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5667-E40F-4A0B-9694-D80202EE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6A64-39AD-4C6E-85ED-D68954F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6763-E1D1-4769-8259-1DE63D96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4B982-98A7-436E-8182-F828E42B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AB8A1-EA93-4D53-99AF-7541DB24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85F42-DB1E-442A-9D7F-1D10DE8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E462B-0141-4A07-B471-9E6DB307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2D18-CBE0-4A60-A417-39CB9888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43FFE-09A4-4CF2-9F27-CC3B4A81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D20-295E-4F6B-9BFC-85108B1F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69DA6-27A2-461D-8D7A-D0D04B04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0C059-C0E6-4757-BAFD-9030E994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E540-FEAF-438D-89BF-1EB736E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6778-583D-4FA3-8B95-AF75AB7A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64A58-9DDD-49F8-93D0-A710D49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7478C-DDD0-4C14-AB3C-D6457A8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73FEE-31CF-4ECF-B152-116FDFC2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769A-CD14-433D-94BF-6DB9676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664DF-A044-4438-90A2-EE7EDB1C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F3BD-D7E9-46FD-8FDC-068754C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D0D-EB6F-45C7-9E7C-6724650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7F09C-0FF7-456B-8909-52D0CD17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7105-4459-43A7-8E4B-8FE9C9BC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12363-DA39-48C0-9E20-38D51B68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D602-598C-44A2-9EF3-431E99EB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34A5-FDF7-4A86-AE80-3C3731F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48EFF-880B-4FB3-B0DF-44FFBE39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C8F3-AF97-407A-847C-414BC2B4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7C0DA-6672-4C8D-B305-033FC753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E6E92-2268-4F0B-AAF0-A69DA00D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13D1A-CF0A-4E43-8BFF-86D68F5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CD3-6935-41B2-A10F-AFA71D9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B0C9-5FDF-4F20-A081-333E52F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B8C3-A874-442B-A6EE-02755A1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4B961-4F2E-41E2-981A-D9EF5BD7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743A-344F-4A8B-979A-D86E8035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F1921-A392-4262-A865-22D551BD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EABE6-7CAF-470B-B5A6-747ECC2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4B07-B510-4B81-B776-2040BEA5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7BA66-3DAA-4B6C-AD38-9269362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DA844-53F3-4FA0-8E14-0D4B352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F7C13-E71C-4B75-8F09-E67DF612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ED3-FE25-4A83-AA54-23572153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1DBD8-910E-4C8B-8A5B-2EEEFB28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A50A-57E6-4B9C-AF44-A5EB0450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1AB8-401E-4CFC-91D3-E4AA0EF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E0F60-80BF-4513-B20E-AD6A427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2AE53-D560-459A-9DCB-227DEADB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CDC8-C196-45B7-AFC4-A4999206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7843E-4A39-48F7-B0DF-CCAEF926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F0474-99A8-4BD4-BBE4-8C7BBC94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122A5-D796-4C19-82F5-E4440853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1CB4F-F686-41FE-9F52-35D0114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FA22-C5CB-494D-9DCC-E01997FB0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A9D6-29D4-4EFA-B1F1-4B9FD872AB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D5ED-A1CE-491C-81E5-9E3405792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1D59-2B3F-4175-B632-3E1FEF5CC5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456E-4D60-4BBC-9DAA-BE12937CD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5DD0-906D-46CB-ACC8-86F5C064E3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283E-1D12-434B-92D8-666C41E88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45A-626A-409A-BB37-E4C1EF0F41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AEE7-0471-4C9B-9627-A75DFCBFA6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7C7-3CA3-4352-806A-4D347D700D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B9B9-E769-459C-8A33-196C2CDAF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B6F1-AB2F-4B98-9458-D28218ADEE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7B57-3861-4230-84C9-3440B07DD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300A-87B9-4E94-891B-C4FC17EEA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19E6-E586-4AA1-B19C-2FA9F431D0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706A-E1E6-4914-A85B-A2E9B013AC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942-411B-423D-AA5A-669F70BC6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D0F-700A-4A50-A601-DB91D580C0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EA4-599D-42E3-AEB9-2361E74151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360-FD52-4A93-A6BA-4936E8F34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E17B-DFE5-443B-BA30-11085C1EE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8F15-6622-4861-9BB1-B848EFDBE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53F6-920B-4F3C-957C-53B881B9C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7B9-568E-4D4F-AEDA-0A4BEC06F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4A30-3CDE-48E6-9ED9-58051DC4A6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9FE8-E572-4C34-B22B-522449099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EC42-2EBC-4E7A-AD6A-4091A6B024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4249-0492-49F8-BCF0-919B268C6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CC26-5BC6-4C60-8D0C-722CDB672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549-973C-49AF-B2EB-43D9E71A2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6E8-4111-496E-A81E-0CE790B4E9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5CB4-79FB-4EDC-BE58-0D2F446808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BFF2-DE6E-488D-AD3B-56D8374AB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7A34-2E43-4E70-BB2A-0A1465824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7DE0-DAAB-4534-A637-4A8892423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2BC9-7F0D-41AF-B792-C6F7C5E9F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9114-BB2B-4EE5-A587-77855D01D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D301-84D2-449F-930E-0A2A9F423B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099-B1C8-40E8-9F13-C9FC99BA9D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FE2C-3298-4774-AAE3-DDC40AA17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62240" y="3114720"/>
            <a:ext cx="46195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24000" y="861840"/>
            <a:ext cx="849600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76120" y="800280"/>
            <a:ext cx="8591760" cy="59148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714240" y="6286680"/>
            <a:ext cx="5432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314280" y="809640"/>
            <a:ext cx="8515440" cy="5905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39800" y="83664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750960" y="17859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4"/>
          <a:stretch/>
        </p:blipFill>
        <p:spPr>
          <a:xfrm>
            <a:off x="750960" y="27860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5"/>
          <a:stretch/>
        </p:blipFill>
        <p:spPr>
          <a:xfrm>
            <a:off x="750960" y="32828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6"/>
          <a:stretch/>
        </p:blipFill>
        <p:spPr>
          <a:xfrm>
            <a:off x="750960" y="428292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7"/>
          <a:stretch/>
        </p:blipFill>
        <p:spPr>
          <a:xfrm>
            <a:off x="750960" y="47829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8"/>
          <a:stretch/>
        </p:blipFill>
        <p:spPr>
          <a:xfrm>
            <a:off x="750960" y="524340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9"/>
          <a:stretch/>
        </p:blipFill>
        <p:spPr>
          <a:xfrm>
            <a:off x="750960" y="5783400"/>
            <a:ext cx="542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338040" y="714240"/>
            <a:ext cx="8467920" cy="5381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2"/>
          <a:stretch/>
        </p:blipFill>
        <p:spPr>
          <a:xfrm>
            <a:off x="417600" y="6203880"/>
            <a:ext cx="8277120" cy="428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750960" y="71424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299880" y="809640"/>
            <a:ext cx="8544240" cy="59054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214200" y="6281640"/>
            <a:ext cx="8775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61800" y="1071720"/>
            <a:ext cx="8420400" cy="54291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214200" y="15825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214200" y="207180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214200" y="305100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214200" y="403848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214200" y="452772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7"/>
          <a:stretch/>
        </p:blipFill>
        <p:spPr>
          <a:xfrm>
            <a:off x="1031760" y="553068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357120" y="781200"/>
            <a:ext cx="842976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09600" y="1004760"/>
            <a:ext cx="8524800" cy="5496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1000080" y="4500720"/>
            <a:ext cx="1643040" cy="368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3929040" y="450072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6429240" y="450072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857160" y="5000760"/>
            <a:ext cx="164304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3786120" y="5000760"/>
            <a:ext cx="1357560" cy="368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7"/>
          <a:stretch/>
        </p:blipFill>
        <p:spPr>
          <a:xfrm>
            <a:off x="6286680" y="5000760"/>
            <a:ext cx="1785600" cy="368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8"/>
          <a:stretch/>
        </p:blipFill>
        <p:spPr>
          <a:xfrm>
            <a:off x="857160" y="5489640"/>
            <a:ext cx="1643040" cy="368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9"/>
          <a:stretch/>
        </p:blipFill>
        <p:spPr>
          <a:xfrm>
            <a:off x="3786120" y="5489640"/>
            <a:ext cx="1357560" cy="368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10"/>
          <a:stretch/>
        </p:blipFill>
        <p:spPr>
          <a:xfrm>
            <a:off x="6286680" y="5489640"/>
            <a:ext cx="1785600" cy="368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11"/>
          <a:stretch/>
        </p:blipFill>
        <p:spPr>
          <a:xfrm>
            <a:off x="1000080" y="5981760"/>
            <a:ext cx="1643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9:2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